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55320" y="7416360"/>
            <a:ext cx="1229364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55320" y="7416360"/>
            <a:ext cx="1229364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55320" y="7416360"/>
            <a:ext cx="1229364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7416360"/>
            <a:ext cx="1229364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spcBef>
                <a:spcPts val="38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0000"/>
          </a:bodyPr>
          <a:p>
            <a:pPr marL="205560"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1" marL="205560" indent="-205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2" marL="205560" indent="-205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3" marL="205560" indent="-205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4" marL="205560" indent="-205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5" marL="205560" indent="-205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6" marL="205560" indent="-205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222840"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1" marL="222840" indent="-2228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2" marL="222840" indent="-2228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3" marL="222840" indent="-2228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4" marL="222840" indent="-2228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5" marL="222840" indent="-2228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6" marL="222840" indent="-2228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marL="246960"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1" marL="246960" indent="0">
              <a:lnSpc>
                <a:spcPct val="120000"/>
              </a:lnSpc>
              <a:spcBef>
                <a:spcPts val="38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2" marL="493560" indent="1645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3" marL="740520" indent="24660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4" marL="987480" indent="32904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5" marL="987480" indent="329040">
              <a:spcBef>
                <a:spcPts val="1151"/>
              </a:spcBef>
              <a:buClr>
                <a:srgbClr val="414141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  <a:p>
            <a:pPr lvl="6" marL="987480" indent="329040">
              <a:spcBef>
                <a:spcPts val="1151"/>
              </a:spcBef>
              <a:buClr>
                <a:srgbClr val="414141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InsertedImage.jpg"/>
          <p:cNvPicPr/>
          <p:nvPr/>
        </p:nvPicPr>
        <p:blipFill>
          <a:blip r:embed="rId1"/>
          <a:srcRect l="0" t="16529" r="0" b="16529"/>
          <a:stretch/>
        </p:blipFill>
        <p:spPr>
          <a:xfrm>
            <a:off x="1306440" y="533520"/>
            <a:ext cx="10388520" cy="5859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THE GREAT DEPRESSION 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InsertedImage.jpg"/>
          <p:cNvPicPr/>
          <p:nvPr/>
        </p:nvPicPr>
        <p:blipFill>
          <a:blip r:embed="rId1"/>
          <a:srcRect l="0" t="9952" r="0" b="9952"/>
          <a:stretch/>
        </p:blipFill>
        <p:spPr>
          <a:xfrm>
            <a:off x="1308240" y="730080"/>
            <a:ext cx="10388520" cy="58611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DUST BOWL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InsertedImage.jpg"/>
          <p:cNvPicPr/>
          <p:nvPr/>
        </p:nvPicPr>
        <p:blipFill>
          <a:blip r:embed="rId1"/>
          <a:srcRect l="-21602" t="0" r="-21602" b="0"/>
          <a:stretch/>
        </p:blipFill>
        <p:spPr>
          <a:xfrm>
            <a:off x="1077840" y="523800"/>
            <a:ext cx="10388520" cy="58593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HOW WILL THE GREAT DEPRESSION END?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InsertedImage.jpg"/>
          <p:cNvPicPr/>
          <p:nvPr/>
        </p:nvPicPr>
        <p:blipFill>
          <a:blip r:embed="rId1"/>
          <a:srcRect l="8761" t="0" r="8761" b="0"/>
          <a:stretch/>
        </p:blipFill>
        <p:spPr>
          <a:xfrm>
            <a:off x="7518240" y="2819520"/>
            <a:ext cx="4381560" cy="65912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GOOD TIME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53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254160" indent="-25416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Herbert Hoover the 31st president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54160" indent="-25416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He wanted to end poverty in his presidency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54160" indent="-25416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e roaring 20s continue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54160" indent="-25416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e Stock Market is booming 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THE BUBBLE BURS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grpSp>
        <p:nvGrpSpPr>
          <p:cNvPr id="157" name="Group 2"/>
          <p:cNvGrpSpPr/>
          <p:nvPr/>
        </p:nvGrpSpPr>
        <p:grpSpPr>
          <a:xfrm>
            <a:off x="352440" y="2622600"/>
            <a:ext cx="12295800" cy="6145920"/>
            <a:chOff x="352440" y="2622600"/>
            <a:chExt cx="12295800" cy="6145920"/>
          </a:xfrm>
        </p:grpSpPr>
        <p:pic>
          <p:nvPicPr>
            <p:cNvPr id="158" name="Picture 3" descr="asset.png"/>
            <p:cNvPicPr/>
            <p:nvPr/>
          </p:nvPicPr>
          <p:blipFill>
            <a:blip r:embed="rId1"/>
            <a:stretch/>
          </p:blipFill>
          <p:spPr>
            <a:xfrm>
              <a:off x="653400" y="2907000"/>
              <a:ext cx="11693520" cy="55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4" descr=""/>
            <p:cNvPicPr/>
            <p:nvPr/>
          </p:nvPicPr>
          <p:blipFill>
            <a:blip r:embed="rId2"/>
            <a:stretch/>
          </p:blipFill>
          <p:spPr>
            <a:xfrm>
              <a:off x="352440" y="2622600"/>
              <a:ext cx="12295800" cy="6145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"/>
          <p:cNvGrpSpPr/>
          <p:nvPr/>
        </p:nvGrpSpPr>
        <p:grpSpPr>
          <a:xfrm>
            <a:off x="7669080" y="2813040"/>
            <a:ext cx="4379040" cy="6588720"/>
            <a:chOff x="7669080" y="2813040"/>
            <a:chExt cx="4379040" cy="6588720"/>
          </a:xfrm>
        </p:grpSpPr>
        <p:pic>
          <p:nvPicPr>
            <p:cNvPr id="161" name="Picture 2" descr="InsertedImage.jpg"/>
            <p:cNvPicPr/>
            <p:nvPr/>
          </p:nvPicPr>
          <p:blipFill>
            <a:blip r:embed="rId1"/>
            <a:srcRect l="28022" t="0" r="28022" b="0"/>
            <a:stretch/>
          </p:blipFill>
          <p:spPr>
            <a:xfrm>
              <a:off x="7855920" y="3015360"/>
              <a:ext cx="4005000" cy="618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" descr=""/>
            <p:cNvPicPr/>
            <p:nvPr/>
          </p:nvPicPr>
          <p:blipFill>
            <a:blip r:embed="rId2"/>
            <a:stretch/>
          </p:blipFill>
          <p:spPr>
            <a:xfrm>
              <a:off x="7669080" y="2813040"/>
              <a:ext cx="4379040" cy="658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59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THE BUBBLE BURS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2920" y="3187800"/>
            <a:ext cx="58928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251280" indent="-2512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Black Tuesday- When the Stock Market Crashed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51280" indent="-2512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e Bonus Army- Soldiers wanting WWI pension before 1945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51280" indent="-2512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armers- had been having hard times since the 1920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InsertedImage.jpg"/>
          <p:cNvPicPr/>
          <p:nvPr/>
        </p:nvPicPr>
        <p:blipFill>
          <a:blip r:embed="rId1"/>
          <a:srcRect l="-13812" t="3951" r="-16870" b="39329"/>
          <a:stretch/>
        </p:blipFill>
        <p:spPr>
          <a:xfrm>
            <a:off x="1308240" y="523800"/>
            <a:ext cx="10388520" cy="585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DEPRESSION HIT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"/>
          <p:cNvGrpSpPr/>
          <p:nvPr/>
        </p:nvGrpSpPr>
        <p:grpSpPr>
          <a:xfrm>
            <a:off x="428760" y="2421000"/>
            <a:ext cx="4378680" cy="6588720"/>
            <a:chOff x="428760" y="2421000"/>
            <a:chExt cx="4378680" cy="6588720"/>
          </a:xfrm>
        </p:grpSpPr>
        <p:pic>
          <p:nvPicPr>
            <p:cNvPr id="168" name="Picture 2" descr="InsertedImage.jpg"/>
            <p:cNvPicPr/>
            <p:nvPr/>
          </p:nvPicPr>
          <p:blipFill>
            <a:blip r:embed="rId1"/>
            <a:srcRect l="10874" t="0" r="10874" b="0"/>
            <a:stretch/>
          </p:blipFill>
          <p:spPr>
            <a:xfrm>
              <a:off x="489960" y="2470680"/>
              <a:ext cx="4255560" cy="63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3" descr=""/>
            <p:cNvPicPr/>
            <p:nvPr/>
          </p:nvPicPr>
          <p:blipFill>
            <a:blip r:embed="rId2"/>
            <a:stretch/>
          </p:blipFill>
          <p:spPr>
            <a:xfrm>
              <a:off x="428760" y="2421000"/>
              <a:ext cx="4378680" cy="658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A NEW HOPE RISE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94600" y="2795400"/>
            <a:ext cx="589248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243720" indent="-2437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ranklin D. Roosevelt the 32nd Presiden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43720" indent="-2437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rmer Secretary of Navy and VP candidate 1920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43720" indent="-2437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ontracted polio, his career was in jeopardy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43720" indent="-24372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ghts back to become Governor of NY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A NEW HOPE RISE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3880" y="3187800"/>
            <a:ext cx="1229544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In 1932 election promised a New Dea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Bank Holiday- a 4 day closing of banks to stop people from pulling their money out of banks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reside Chats- First time president can speak directly to the American public via radio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62080" indent="-26208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Alphabet soup agencies   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306920" y="0"/>
            <a:ext cx="5213160" cy="364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ALPHABET SOUP AGENCY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175" name="Picture 2" descr="asset.png"/>
          <p:cNvPicPr/>
          <p:nvPr/>
        </p:nvPicPr>
        <p:blipFill>
          <a:blip r:embed="rId1"/>
          <a:srcRect l="0" t="546" r="0" b="-22958"/>
          <a:stretch/>
        </p:blipFill>
        <p:spPr>
          <a:xfrm>
            <a:off x="293760" y="243000"/>
            <a:ext cx="6987960" cy="11406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asset.jpg"/>
          <p:cNvPicPr/>
          <p:nvPr/>
        </p:nvPicPr>
        <p:blipFill>
          <a:blip r:embed="rId2"/>
          <a:stretch/>
        </p:blipFill>
        <p:spPr>
          <a:xfrm>
            <a:off x="6684840" y="3735360"/>
            <a:ext cx="6210360" cy="58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"/>
          <p:cNvGrpSpPr/>
          <p:nvPr/>
        </p:nvGrpSpPr>
        <p:grpSpPr>
          <a:xfrm>
            <a:off x="7862760" y="2516040"/>
            <a:ext cx="4448880" cy="6693840"/>
            <a:chOff x="7862760" y="2516040"/>
            <a:chExt cx="4448880" cy="6693840"/>
          </a:xfrm>
        </p:grpSpPr>
        <p:pic>
          <p:nvPicPr>
            <p:cNvPr id="178" name="Picture 2" descr="InsertedImage.jpg"/>
            <p:cNvPicPr/>
            <p:nvPr/>
          </p:nvPicPr>
          <p:blipFill>
            <a:blip r:embed="rId1"/>
            <a:srcRect l="15498" t="0" r="15498" b="0"/>
            <a:stretch/>
          </p:blipFill>
          <p:spPr>
            <a:xfrm>
              <a:off x="7923960" y="2565720"/>
              <a:ext cx="4326120" cy="64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" descr=""/>
            <p:cNvPicPr/>
            <p:nvPr/>
          </p:nvPicPr>
          <p:blipFill>
            <a:blip r:embed="rId2"/>
            <a:stretch/>
          </p:blipFill>
          <p:spPr>
            <a:xfrm>
              <a:off x="7862760" y="2516040"/>
              <a:ext cx="4448880" cy="669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DEPRESSION CONTINUES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5320" y="1954080"/>
            <a:ext cx="5892840" cy="647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225360" indent="-22536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ourt Packing- Supreme Court overturns parts of the New Deal and Roosevelt threatens to expand the court.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25360" indent="-22536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ourt Packing fails to Pass Congress and damages FDR.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marL="225360" indent="-225360">
              <a:lnSpc>
                <a:spcPct val="100000"/>
              </a:lnSpc>
              <a:spcBef>
                <a:spcPts val="3801"/>
              </a:spcBef>
              <a:buClr>
                <a:srgbClr val="414141"/>
              </a:buClr>
              <a:buSzPct val="82000"/>
              <a:buFont typeface="Gill Sans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e Social Security Act- a plan by FDR for people to Retire.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en Hildebrandt</cp:lastModifiedBy>
  <dcterms:modified xsi:type="dcterms:W3CDTF">2013-03-28T18:49:53Z</dcterms:modified>
  <cp:revision>1</cp:revision>
  <dc:subject/>
  <dc:title>THE GREAT DEPRESSION </dc:title>
</cp:coreProperties>
</file>